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B61-330C-45BB-B603-8AE09493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3FA-0F29-4752-B537-60E8987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6D7-347E-417C-8253-F72A0321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988-58D2-4CEF-88C3-879459B0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20F-C610-4681-B853-44370F1D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336-84B1-46D3-B34E-1CE7C40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C4B-522A-436D-993F-634864D2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546-F12D-4486-82D3-67B747B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25B-B7AE-4D1F-B643-8809B0FA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C89-D3EF-4595-8A14-CE97DAA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417-C020-4EEE-AB31-7CB0650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FFB-CD37-4718-957E-970294C0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698-73E1-4436-8DA1-F59D88AD2D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3760" y="11732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844640"/>
            <a:ext cx="590544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836640"/>
            <a:ext cx="410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141840" y="2675520"/>
            <a:ext cx="2306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249228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5280" y="1844640"/>
            <a:ext cx="590544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620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51560" y="2593080"/>
            <a:ext cx="237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263700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16200000">
            <a:off x="2483640" y="2348640"/>
            <a:ext cx="446544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54936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4m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1626120" y="2415240"/>
            <a:ext cx="30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10m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637000"/>
            <a:ext cx="93672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55640" y="765000"/>
            <a:ext cx="6985080" cy="4321440"/>
            <a:chOff x="755640" y="765000"/>
            <a:chExt cx="6985080" cy="4321440"/>
          </a:xfrm>
        </p:grpSpPr>
        <p:grpSp>
          <p:nvGrpSpPr>
            <p:cNvPr id="55" name=""/>
            <p:cNvGrpSpPr/>
            <p:nvPr/>
          </p:nvGrpSpPr>
          <p:grpSpPr>
            <a:xfrm>
              <a:off x="755640" y="765000"/>
              <a:ext cx="6985080" cy="4321440"/>
              <a:chOff x="755640" y="765000"/>
              <a:chExt cx="6985080" cy="4321440"/>
            </a:xfrm>
          </p:grpSpPr>
          <p:sp>
            <p:nvSpPr>
              <p:cNvPr id="56" name=""/>
              <p:cNvSpPr/>
              <p:nvPr/>
            </p:nvSpPr>
            <p:spPr>
              <a:xfrm>
                <a:off x="1835280" y="1917720"/>
                <a:ext cx="5905440" cy="316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92360" y="765000"/>
                <a:ext cx="41054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Comic Sans MS"/>
                  </a:rPr>
                  <a:t>7cm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55640" y="2276640"/>
                <a:ext cx="1657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7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43280" y="2565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800" spc="-1" strike="noStrike">
                  <a:solidFill>
                    <a:srgbClr val="000000"/>
                  </a:solidFill>
                  <a:latin typeface="Comic Sans MS"/>
                </a:rPr>
                <a:t>21cm</a:t>
              </a:r>
              <a:r>
                <a:rPr b="0" lang="en-US" sz="10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55640" y="765000"/>
            <a:ext cx="6985080" cy="4321440"/>
            <a:chOff x="755640" y="765000"/>
            <a:chExt cx="6985080" cy="4321440"/>
          </a:xfrm>
        </p:grpSpPr>
        <p:grpSp>
          <p:nvGrpSpPr>
            <p:cNvPr id="61" name=""/>
            <p:cNvGrpSpPr/>
            <p:nvPr/>
          </p:nvGrpSpPr>
          <p:grpSpPr>
            <a:xfrm>
              <a:off x="755640" y="765000"/>
              <a:ext cx="6985080" cy="4321440"/>
              <a:chOff x="755640" y="765000"/>
              <a:chExt cx="6985080" cy="4321440"/>
            </a:xfrm>
          </p:grpSpPr>
          <p:sp>
            <p:nvSpPr>
              <p:cNvPr id="62" name=""/>
              <p:cNvSpPr/>
              <p:nvPr/>
            </p:nvSpPr>
            <p:spPr>
              <a:xfrm>
                <a:off x="1835280" y="1917720"/>
                <a:ext cx="5905440" cy="316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92360" y="765000"/>
                <a:ext cx="41054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Comic Sans MS"/>
                  </a:rPr>
                  <a:t>8m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5640" y="2276640"/>
                <a:ext cx="1657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7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843280" y="2565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800" spc="-1" strike="noStrike">
                  <a:solidFill>
                    <a:srgbClr val="000000"/>
                  </a:solidFill>
                  <a:latin typeface="Comic Sans MS"/>
                </a:rPr>
                <a:t>24m</a:t>
              </a:r>
              <a:r>
                <a:rPr b="0" lang="en-US" sz="10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848720" cy="389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4653000"/>
            <a:ext cx="5473800" cy="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8360" y="2133720"/>
            <a:ext cx="0" cy="237492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581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909200" y="30405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116000" y="476280"/>
            <a:ext cx="6989760" cy="527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4941720"/>
            <a:ext cx="4608360" cy="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1628640"/>
            <a:ext cx="0" cy="295272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55680" y="804960"/>
            <a:ext cx="323856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8913200">
            <a:off x="2981160" y="234720"/>
            <a:ext cx="288000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9:21:17Z</dcterms:created>
  <dc:creator>Betsan Thomas</dc:creator>
  <dc:description/>
  <dc:language>en-US</dc:language>
  <cp:lastModifiedBy>Betsan Wyn Thomas</cp:lastModifiedBy>
  <dcterms:modified xsi:type="dcterms:W3CDTF">2008-11-02T20:02:24Z</dcterms:modified>
  <cp:revision>4</cp:revision>
  <dc:subject/>
  <dc:title>Slide 1</dc:title>
</cp:coreProperties>
</file>